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19.jpeg" ContentType="image/jpeg"/>
  <Override PartName="/ppt/media/image6.wmf" ContentType="image/x-wmf"/>
  <Override PartName="/ppt/media/image28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D1B2-98DD-4E3B-B086-517FB32EA7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not about Dalton anymo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raction pattern caused by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ng through two adjacent sl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alling on alkali metals causes electrons to be released from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# of electrons depends on the intensity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pecific wavelengths of light that cause the release of e-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the photoelectric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wave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interpretation of the photoelectric effect (1905) was that light is quantized in packets of set energy called photons. (He won the Nobel Prize for thi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t that light had characteristics of partic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particles…r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25, de Broglie stated that all particles have a wavelength described by the equa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 = h/p where p=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show diffraction pattern when passing through a s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light and particles have a d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to atomic struc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an atom contains a nucleus with p+ and no.  Electrons orbit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known that atoms emit a unique spectrum of lines when excited.  Rydberg derived an equation that related the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is the Rydberg constant = 1.096776x107 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est colors derive from electrons changing energy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ic emission spec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ckwise from lower lef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on, helium, hydroge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rcury, 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occupies its usual energy level it is in the 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electron absorbs a photon and moves to a higher energy level it is in an excite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levels are “quantized”.  Atoms can only transition between set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the levels set where they a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the electronic structure of the atom we need to review the properties of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d regions occupied by an electron of set energy terme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motion in restricted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electrons as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senberg stated that in measuring the electron there is uncertainty so we can only calculate a probable location for the electron.  This is called the Heisenberg Uncertainty Princip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probability in the ground-state H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2p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3d orb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 orb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particulate, mas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ntinuous, wave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major observations and theories leading from classical theory to quantum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and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l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N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height or amplitude determines radiation int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length is related to the energy of the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λ, ν,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λ decreases and ν increases, what happened to the energy of the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h = Planck’s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626 × 10-34 m2 kg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 of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inite number of wavelength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magnetic radiation have been classifi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groups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onverting Wavelength and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 = 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73x10-9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0x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x1018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5x10-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.23x107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34x1014 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of Radiation from Its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converting cm to m, we can use the energy equation, E = hn combined with n = c/l to find th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hc/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26X10-34J*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108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66x10-2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 or W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behaviors of waves and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93C-F6B1-4D98-98B7-C6CDE1EF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847E-BFE9-4C2E-8B01-569BF6B2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D61-F72D-45FB-BEDB-48601EF5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08D-CAD9-4D77-9220-1C2D99F2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6C02-E9FD-4755-B383-75E8A7E4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E32-6ADD-4481-8CB4-09B26B11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2F3-F6CC-4E5D-93F8-FA818680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694D-A66A-4FFD-A978-2C2FCCD1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82B-EBB7-48DA-AEEB-73C16211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88B-D8B4-4E08-9230-C71F3022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722-4797-4437-8F3A-F34F38AD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678-FB04-4968-AB7C-CEAA6210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0029-973C-423D-A2CE-40C2608E3E5B}" type="datetime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CA2E-19DD-4977-9B86-758071CD5EF4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omic Structure 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1142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It’s not about Dalton anymo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atoms.jpg"/>
          <p:cNvPicPr/>
          <p:nvPr/>
        </p:nvPicPr>
        <p:blipFill>
          <a:blip r:embed="rId1"/>
          <a:stretch/>
        </p:blipFill>
        <p:spPr>
          <a:xfrm>
            <a:off x="2209680" y="1981080"/>
            <a:ext cx="4445280" cy="4216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5680" cy="5213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33520" y="380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diffraction pattern caused by 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assing through two adjacent sl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ight falling on alkali metals causes electrons to be released from the metal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# of electrons depends on the intensity of light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specific wavelengths of light that cause the release of e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is called th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hotoelectric effect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638680" y="1371600"/>
            <a:ext cx="2872080" cy="49528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ght is a wave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instein’s interpretation of the photoelectric effect (1905) was that light is quantized in packets of set energy calle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hot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(He won the Nobel Prize for this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eant that light had characteristics of particl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s are particles…righ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1925, de Broglie stated that all particles have a wavelength described by the equation: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h/p where p= moment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s show diffraction pattern when passing through a sl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 light and particles have a du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a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" descr="electrondiffraction.jpg"/>
          <p:cNvPicPr/>
          <p:nvPr/>
        </p:nvPicPr>
        <p:blipFill>
          <a:blip r:embed="rId1"/>
          <a:stretch/>
        </p:blipFill>
        <p:spPr>
          <a:xfrm>
            <a:off x="7548480" y="2666880"/>
            <a:ext cx="1595520" cy="38102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ck to atomic structur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already know an atom contains a nucleus with 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Electrons orbit the nucleu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known that atoms emit a unique spectrum of lines when excited.  Rydberg derived an equation that related the lin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is the Rydberg constant = 1.096776x1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1600200" y="5181480"/>
            <a:ext cx="6477120" cy="1295640"/>
            <a:chOff x="1600200" y="5181480"/>
            <a:chExt cx="6477120" cy="1295640"/>
          </a:xfrm>
        </p:grpSpPr>
        <p:sp>
          <p:nvSpPr>
            <p:cNvPr id="179" name="Rectangle 25"/>
            <p:cNvSpPr/>
            <p:nvPr/>
          </p:nvSpPr>
          <p:spPr>
            <a:xfrm>
              <a:off x="1600200" y="5181480"/>
              <a:ext cx="6477120" cy="12956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72428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518184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1600200" y="555444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Rydberg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6"/>
            <p:cNvSpPr/>
            <p:nvPr/>
          </p:nvSpPr>
          <p:spPr>
            <a:xfrm>
              <a:off x="6248520" y="55544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0"/>
            <p:cNvGrpSpPr/>
            <p:nvPr/>
          </p:nvGrpSpPr>
          <p:grpSpPr>
            <a:xfrm>
              <a:off x="4191120" y="5364000"/>
              <a:ext cx="380880" cy="779760"/>
              <a:chOff x="4191120" y="5364000"/>
              <a:chExt cx="380880" cy="779760"/>
            </a:xfrm>
          </p:grpSpPr>
          <p:sp>
            <p:nvSpPr>
              <p:cNvPr id="185" name="Text Box 5"/>
              <p:cNvSpPr/>
              <p:nvPr/>
            </p:nvSpPr>
            <p:spPr>
              <a:xfrm>
                <a:off x="4191120" y="53640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"/>
              <p:cNvSpPr/>
              <p:nvPr/>
            </p:nvSpPr>
            <p:spPr>
              <a:xfrm>
                <a:off x="4191120" y="574488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7"/>
              <p:cNvSpPr/>
              <p:nvPr/>
            </p:nvSpPr>
            <p:spPr>
              <a:xfrm>
                <a:off x="4191120" y="57448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2"/>
            <p:cNvGrpSpPr/>
            <p:nvPr/>
          </p:nvGrpSpPr>
          <p:grpSpPr>
            <a:xfrm>
              <a:off x="6629760" y="5364000"/>
              <a:ext cx="533160" cy="821520"/>
              <a:chOff x="6629760" y="5364000"/>
              <a:chExt cx="533160" cy="821520"/>
            </a:xfrm>
          </p:grpSpPr>
          <p:sp>
            <p:nvSpPr>
              <p:cNvPr id="189" name="Text Box 10"/>
              <p:cNvSpPr/>
              <p:nvPr/>
            </p:nvSpPr>
            <p:spPr>
              <a:xfrm>
                <a:off x="670572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5"/>
              <p:cNvSpPr/>
              <p:nvPr/>
            </p:nvSpPr>
            <p:spPr>
              <a:xfrm>
                <a:off x="662976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2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>
                <a:off x="666756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1"/>
            <p:cNvGrpSpPr/>
            <p:nvPr/>
          </p:nvGrpSpPr>
          <p:grpSpPr>
            <a:xfrm>
              <a:off x="5715000" y="5364000"/>
              <a:ext cx="533160" cy="821520"/>
              <a:chOff x="5715000" y="5364000"/>
              <a:chExt cx="533160" cy="821520"/>
            </a:xfrm>
          </p:grpSpPr>
          <p:sp>
            <p:nvSpPr>
              <p:cNvPr id="193" name="Text Box 9"/>
              <p:cNvSpPr/>
              <p:nvPr/>
            </p:nvSpPr>
            <p:spPr>
              <a:xfrm>
                <a:off x="5790960" y="536400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4"/>
              <p:cNvSpPr/>
              <p:nvPr/>
            </p:nvSpPr>
            <p:spPr>
              <a:xfrm>
                <a:off x="5715000" y="5744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1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9"/>
              <p:cNvSpPr/>
              <p:nvPr/>
            </p:nvSpPr>
            <p:spPr>
              <a:xfrm>
                <a:off x="5752800" y="57448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ame test colors derive from electrons changing energy lev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4" descr="07_13_figure"/>
          <p:cNvPicPr/>
          <p:nvPr/>
        </p:nvPicPr>
        <p:blipFill>
          <a:blip r:embed="rId1"/>
          <a:stretch/>
        </p:blipFill>
        <p:spPr>
          <a:xfrm>
            <a:off x="298440" y="1411200"/>
            <a:ext cx="8547120" cy="40356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"/>
          <p:cNvSpPr/>
          <p:nvPr/>
        </p:nvSpPr>
        <p:spPr>
          <a:xfrm>
            <a:off x="0" y="65818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hyperphysics.phy-astr.gsu.edu/hbase/quantum/atspect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heltube.jpg"/>
          <p:cNvPicPr/>
          <p:nvPr/>
        </p:nvPicPr>
        <p:blipFill>
          <a:blip r:embed="rId1"/>
          <a:stretch/>
        </p:blipFill>
        <p:spPr>
          <a:xfrm>
            <a:off x="0" y="0"/>
            <a:ext cx="2344680" cy="38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ydtube.jpg"/>
          <p:cNvPicPr/>
          <p:nvPr/>
        </p:nvPicPr>
        <p:blipFill>
          <a:blip r:embed="rId2"/>
          <a:stretch/>
        </p:blipFill>
        <p:spPr>
          <a:xfrm>
            <a:off x="3505320" y="0"/>
            <a:ext cx="25765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mertube.jpg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388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neoncomp.jpg"/>
          <p:cNvPicPr/>
          <p:nvPr/>
        </p:nvPicPr>
        <p:blipFill>
          <a:blip r:embed="rId4"/>
          <a:stretch/>
        </p:blipFill>
        <p:spPr>
          <a:xfrm>
            <a:off x="0" y="4114800"/>
            <a:ext cx="2533680" cy="2514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nittube.jpg"/>
          <p:cNvPicPr/>
          <p:nvPr/>
        </p:nvPicPr>
        <p:blipFill>
          <a:blip r:embed="rId5"/>
          <a:stretch/>
        </p:blipFill>
        <p:spPr>
          <a:xfrm>
            <a:off x="5845320" y="4114800"/>
            <a:ext cx="329868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7"/>
          <p:cNvSpPr/>
          <p:nvPr/>
        </p:nvSpPr>
        <p:spPr>
          <a:xfrm>
            <a:off x="2774880" y="4191120"/>
            <a:ext cx="29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emission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ockwise from lower le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on, helium, hydro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cury, ni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666880" y="4038480"/>
            <a:ext cx="3124440" cy="2133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07_20_figure"/>
          <p:cNvPicPr/>
          <p:nvPr/>
        </p:nvPicPr>
        <p:blipFill>
          <a:blip r:embed="rId1"/>
          <a:stretch/>
        </p:blipFill>
        <p:spPr>
          <a:xfrm>
            <a:off x="298440" y="1441440"/>
            <a:ext cx="8547120" cy="39751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07_11_figure"/>
          <p:cNvPicPr/>
          <p:nvPr/>
        </p:nvPicPr>
        <p:blipFill>
          <a:blip r:embed="rId1"/>
          <a:stretch/>
        </p:blipFill>
        <p:spPr>
          <a:xfrm>
            <a:off x="298440" y="274680"/>
            <a:ext cx="8547120" cy="63086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n lo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occupies its usual energy level it is in the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groun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 electron absorbs a photon and moves to a higher energy level it is in an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xcited st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nergy levels are “quantized”.  Atoms can only transition between set leve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are the levels set where they a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rst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understand the electronic structure of the atom we need to review the properties of electromagnetic radi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Picture 3" descr="heltube.jpg"/>
          <p:cNvPicPr/>
          <p:nvPr/>
        </p:nvPicPr>
        <p:blipFill>
          <a:blip r:embed="rId1"/>
          <a:stretch/>
        </p:blipFill>
        <p:spPr>
          <a:xfrm>
            <a:off x="1676520" y="3575160"/>
            <a:ext cx="5029200" cy="32828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electrons have wave motion Schrödinger applied the classic wave equations to the motion of a hydrogen electron.  Certain wavelengths reinforced each other and were allow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generated regions occupied by an electron of set energy termed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bital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5113440" cy="56386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304920" y="2514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ve motion in restricted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electrons as wa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isenberg stated that in measuring the electron there is uncertainty so we can only calculate a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robable loca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the electron.  This is called the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eisenberg Uncertainty Princi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6"/>
          <p:cNvSpPr/>
          <p:nvPr/>
        </p:nvSpPr>
        <p:spPr>
          <a:xfrm>
            <a:off x="4572000" y="54100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ctron probability in the ground-state H a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07_23_figure"/>
          <p:cNvPicPr/>
          <p:nvPr/>
        </p:nvPicPr>
        <p:blipFill>
          <a:blip r:embed="rId1"/>
          <a:stretch/>
        </p:blipFill>
        <p:spPr>
          <a:xfrm>
            <a:off x="2209680" y="3643200"/>
            <a:ext cx="2221200" cy="3214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07_22_figure"/>
          <p:cNvPicPr/>
          <p:nvPr/>
        </p:nvPicPr>
        <p:blipFill>
          <a:blip r:embed="rId2"/>
          <a:stretch/>
        </p:blipFill>
        <p:spPr>
          <a:xfrm>
            <a:off x="228600" y="228600"/>
            <a:ext cx="8547120" cy="334008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7"/>
          <p:cNvSpPr/>
          <p:nvPr/>
        </p:nvSpPr>
        <p:spPr>
          <a:xfrm>
            <a:off x="3657600" y="457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2p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7" descr="07_26_figure"/>
          <p:cNvPicPr/>
          <p:nvPr/>
        </p:nvPicPr>
        <p:blipFill>
          <a:blip r:embed="rId1"/>
          <a:stretch/>
        </p:blipFill>
        <p:spPr>
          <a:xfrm>
            <a:off x="304920" y="1079640"/>
            <a:ext cx="8547120" cy="57783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3352680" y="3049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3d orb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1" descr="07_27_figure"/>
          <p:cNvPicPr/>
          <p:nvPr/>
        </p:nvPicPr>
        <p:blipFill>
          <a:blip r:embed="rId1"/>
          <a:stretch/>
        </p:blipFill>
        <p:spPr>
          <a:xfrm>
            <a:off x="298440" y="914400"/>
            <a:ext cx="8547120" cy="50292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07_28_figure"/>
          <p:cNvPicPr/>
          <p:nvPr/>
        </p:nvPicPr>
        <p:blipFill>
          <a:blip r:embed="rId1"/>
          <a:stretch/>
        </p:blipFill>
        <p:spPr>
          <a:xfrm>
            <a:off x="298440" y="765000"/>
            <a:ext cx="8547120" cy="532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513600" y="0"/>
            <a:ext cx="160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5"/>
          <p:cNvSpPr/>
          <p:nvPr/>
        </p:nvSpPr>
        <p:spPr>
          <a:xfrm>
            <a:off x="609480" y="3657600"/>
            <a:ext cx="8153640" cy="24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57200" y="838080"/>
            <a:ext cx="3200400" cy="2057400"/>
          </a:xfrm>
          <a:prstGeom prst="downArrowCallout">
            <a:avLst>
              <a:gd name="adj1" fmla="val 38892"/>
              <a:gd name="adj2" fmla="val 38889"/>
              <a:gd name="adj3" fmla="val 16667"/>
              <a:gd name="adj4" fmla="val 6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685800" y="838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ASSICAL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45720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te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ulate, ma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209680" y="12952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ergy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, wave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2057400" y="1219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4"/>
          <p:cNvGrpSpPr/>
          <p:nvPr/>
        </p:nvGrpSpPr>
        <p:grpSpPr>
          <a:xfrm>
            <a:off x="609480" y="2971800"/>
            <a:ext cx="8153640" cy="685800"/>
            <a:chOff x="609480" y="2971800"/>
            <a:chExt cx="8153640" cy="685800"/>
          </a:xfrm>
        </p:grpSpPr>
        <p:sp>
          <p:nvSpPr>
            <p:cNvPr id="249" name="Rectangle 23"/>
            <p:cNvSpPr/>
            <p:nvPr/>
          </p:nvSpPr>
          <p:spPr>
            <a:xfrm>
              <a:off x="609480" y="2971800"/>
              <a:ext cx="815364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1676520" y="299412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is discontinuous and particulate perhaps energy is discontinuous and particulat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"/>
          <p:cNvSpPr/>
          <p:nvPr/>
        </p:nvSpPr>
        <p:spPr>
          <a:xfrm>
            <a:off x="68580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76720" y="3733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0"/>
          <p:cNvGrpSpPr/>
          <p:nvPr/>
        </p:nvGrpSpPr>
        <p:grpSpPr>
          <a:xfrm>
            <a:off x="685800" y="4191120"/>
            <a:ext cx="8153280" cy="642600"/>
            <a:chOff x="685800" y="4191120"/>
            <a:chExt cx="8153280" cy="642600"/>
          </a:xfrm>
        </p:grpSpPr>
        <p:sp>
          <p:nvSpPr>
            <p:cNvPr id="254" name="Text Box 10"/>
            <p:cNvSpPr/>
            <p:nvPr/>
          </p:nvSpPr>
          <p:spPr>
            <a:xfrm>
              <a:off x="3352680" y="4191120"/>
              <a:ext cx="548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lanck:    Energy is quantized;  only certain valu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lo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3"/>
            <p:cNvSpPr/>
            <p:nvPr/>
          </p:nvSpPr>
          <p:spPr>
            <a:xfrm>
              <a:off x="685800" y="419112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lackbody 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2819520" y="437508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"/>
          <p:cNvGrpSpPr/>
          <p:nvPr/>
        </p:nvGrpSpPr>
        <p:grpSpPr>
          <a:xfrm>
            <a:off x="685800" y="4800600"/>
            <a:ext cx="8229600" cy="368280"/>
            <a:chOff x="685800" y="4800600"/>
            <a:chExt cx="8229600" cy="368280"/>
          </a:xfrm>
        </p:grpSpPr>
        <p:sp>
          <p:nvSpPr>
            <p:cNvPr id="258" name="Text Box 11"/>
            <p:cNvSpPr/>
            <p:nvPr/>
          </p:nvSpPr>
          <p:spPr>
            <a:xfrm>
              <a:off x="3352680" y="480060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:  Light has particulate behavior (photon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6"/>
            <p:cNvSpPr/>
            <p:nvPr/>
          </p:nvSpPr>
          <p:spPr>
            <a:xfrm>
              <a:off x="685800" y="48006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electric eff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8"/>
            <p:cNvSpPr/>
            <p:nvPr/>
          </p:nvSpPr>
          <p:spPr>
            <a:xfrm>
              <a:off x="2819520" y="4983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2"/>
          <p:cNvGrpSpPr/>
          <p:nvPr/>
        </p:nvGrpSpPr>
        <p:grpSpPr>
          <a:xfrm>
            <a:off x="685800" y="5257800"/>
            <a:ext cx="8229600" cy="642600"/>
            <a:chOff x="685800" y="5257800"/>
            <a:chExt cx="8229600" cy="642600"/>
          </a:xfrm>
        </p:grpSpPr>
        <p:sp>
          <p:nvSpPr>
            <p:cNvPr id="262" name="Text Box 12"/>
            <p:cNvSpPr/>
            <p:nvPr/>
          </p:nvSpPr>
          <p:spPr>
            <a:xfrm>
              <a:off x="3352680" y="5257800"/>
              <a:ext cx="556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ohr:       Energy of atoms is quantized;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mitted when electron changes orb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685800" y="52578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ic line spect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9"/>
            <p:cNvSpPr/>
            <p:nvPr/>
          </p:nvSpPr>
          <p:spPr>
            <a:xfrm>
              <a:off x="2819520" y="5442120"/>
              <a:ext cx="533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962520" y="990720"/>
            <a:ext cx="4800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mmary of the major observations and theories leading from classical theory to quantum the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/>
          <p:cNvSpPr/>
          <p:nvPr/>
        </p:nvSpPr>
        <p:spPr>
          <a:xfrm>
            <a:off x="533520" y="1295280"/>
            <a:ext cx="8153280" cy="160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533520" y="762120"/>
            <a:ext cx="8153280" cy="457200"/>
            <a:chOff x="533520" y="762120"/>
            <a:chExt cx="8153280" cy="457200"/>
          </a:xfrm>
        </p:grpSpPr>
        <p:sp>
          <p:nvSpPr>
            <p:cNvPr id="269" name="Rectangle 3"/>
            <p:cNvSpPr/>
            <p:nvPr/>
          </p:nvSpPr>
          <p:spPr>
            <a:xfrm>
              <a:off x="533520" y="76212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"/>
            <p:cNvSpPr/>
            <p:nvPr/>
          </p:nvSpPr>
          <p:spPr>
            <a:xfrm>
              <a:off x="1600200" y="784080"/>
              <a:ext cx="594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energy is wavelike perhaps matter is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5"/>
          <p:cNvSpPr/>
          <p:nvPr/>
        </p:nvSpPr>
        <p:spPr>
          <a:xfrm>
            <a:off x="609480" y="13716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3200400" y="1371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1"/>
          <p:cNvGrpSpPr/>
          <p:nvPr/>
        </p:nvGrpSpPr>
        <p:grpSpPr>
          <a:xfrm>
            <a:off x="609480" y="1828800"/>
            <a:ext cx="8153640" cy="1191240"/>
            <a:chOff x="609480" y="1828800"/>
            <a:chExt cx="8153640" cy="1191240"/>
          </a:xfrm>
        </p:grpSpPr>
        <p:sp>
          <p:nvSpPr>
            <p:cNvPr id="274" name="Text Box 8"/>
            <p:cNvSpPr/>
            <p:nvPr/>
          </p:nvSpPr>
          <p:spPr>
            <a:xfrm>
              <a:off x="3276720" y="1828800"/>
              <a:ext cx="548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Broglie:  All matter travels in waves; energ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om is quantized due to wave motion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of electr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"/>
            <p:cNvSpPr/>
            <p:nvPr/>
          </p:nvSpPr>
          <p:spPr>
            <a:xfrm>
              <a:off x="609480" y="18288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avisson/Germer: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lectron diffr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y metal crys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 flipH="1">
              <a:off x="2819520" y="2362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3"/>
          <p:cNvSpPr/>
          <p:nvPr/>
        </p:nvSpPr>
        <p:spPr>
          <a:xfrm>
            <a:off x="457200" y="3505320"/>
            <a:ext cx="8229600" cy="19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24"/>
          <p:cNvGrpSpPr/>
          <p:nvPr/>
        </p:nvGrpSpPr>
        <p:grpSpPr>
          <a:xfrm>
            <a:off x="533520" y="2971800"/>
            <a:ext cx="8153280" cy="457200"/>
            <a:chOff x="533520" y="2971800"/>
            <a:chExt cx="8153280" cy="457200"/>
          </a:xfrm>
        </p:grpSpPr>
        <p:sp>
          <p:nvSpPr>
            <p:cNvPr id="279" name="Rectangle 15"/>
            <p:cNvSpPr/>
            <p:nvPr/>
          </p:nvSpPr>
          <p:spPr>
            <a:xfrm>
              <a:off x="533520" y="2971800"/>
              <a:ext cx="8153280" cy="4572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ffff"/>
                </a:gs>
                <a:gs pos="100000">
                  <a:srgbClr val="fff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6"/>
            <p:cNvSpPr/>
            <p:nvPr/>
          </p:nvSpPr>
          <p:spPr>
            <a:xfrm>
              <a:off x="1600200" y="2994120"/>
              <a:ext cx="533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ince matter has mass perhaps energy has m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609480" y="3581280"/>
            <a:ext cx="4114800" cy="368280"/>
            <a:chOff x="609480" y="3581280"/>
            <a:chExt cx="4114800" cy="368280"/>
          </a:xfrm>
        </p:grpSpPr>
        <p:sp>
          <p:nvSpPr>
            <p:cNvPr id="282" name="Text Box 17"/>
            <p:cNvSpPr/>
            <p:nvPr/>
          </p:nvSpPr>
          <p:spPr>
            <a:xfrm>
              <a:off x="609480" y="35812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8"/>
            <p:cNvSpPr/>
            <p:nvPr/>
          </p:nvSpPr>
          <p:spPr>
            <a:xfrm>
              <a:off x="3200400" y="35812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3"/>
          <p:cNvGrpSpPr/>
          <p:nvPr/>
        </p:nvGrpSpPr>
        <p:grpSpPr>
          <a:xfrm>
            <a:off x="609480" y="4038480"/>
            <a:ext cx="8153640" cy="1465560"/>
            <a:chOff x="609480" y="4038480"/>
            <a:chExt cx="8153640" cy="1465560"/>
          </a:xfrm>
        </p:grpSpPr>
        <p:sp>
          <p:nvSpPr>
            <p:cNvPr id="285" name="Text Box 19"/>
            <p:cNvSpPr/>
            <p:nvPr/>
          </p:nvSpPr>
          <p:spPr>
            <a:xfrm>
              <a:off x="3276720" y="4038480"/>
              <a:ext cx="5486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instein/deBroglie:  Mass and energy ar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quivalent; particles have wavelength and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hotons have momentum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609480" y="4038480"/>
              <a:ext cx="2438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mpton:  phot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wavelength increases (momentum decreases) after colliding with electr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2971800" y="45720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28"/>
          <p:cNvGrpSpPr/>
          <p:nvPr/>
        </p:nvGrpSpPr>
        <p:grpSpPr>
          <a:xfrm>
            <a:off x="4000680" y="5181480"/>
            <a:ext cx="3695400" cy="1295640"/>
            <a:chOff x="4000680" y="5181480"/>
            <a:chExt cx="3695400" cy="1295640"/>
          </a:xfrm>
        </p:grpSpPr>
        <p:sp>
          <p:nvSpPr>
            <p:cNvPr id="289" name="Rectangle 27"/>
            <p:cNvSpPr/>
            <p:nvPr/>
          </p:nvSpPr>
          <p:spPr>
            <a:xfrm>
              <a:off x="4000680" y="5181480"/>
              <a:ext cx="3657600" cy="1295640"/>
            </a:xfrm>
            <a:prstGeom prst="rect">
              <a:avLst/>
            </a:prstGeom>
            <a:gradFill rotWithShape="0">
              <a:gsLst>
                <a:gs pos="0">
                  <a:srgbClr val="ff3300">
                    <a:alpha val="75294"/>
                  </a:srgbClr>
                </a:gs>
                <a:gs pos="100000">
                  <a:srgbClr val="be2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5"/>
            <p:cNvSpPr/>
            <p:nvPr/>
          </p:nvSpPr>
          <p:spPr>
            <a:xfrm>
              <a:off x="4610160" y="5334120"/>
              <a:ext cx="308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QUANTUM THE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4000680" y="5715000"/>
              <a:ext cx="365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nergy same as Mat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articulate, massive, wave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4444920" cy="609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5335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33520" y="2895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equency and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7200" y="4572000"/>
            <a:ext cx="2514600" cy="14328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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 = speed of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04920" y="6094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he Wave Na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9"/>
          <p:cNvGrpSpPr/>
          <p:nvPr/>
        </p:nvGrpSpPr>
        <p:grpSpPr>
          <a:xfrm>
            <a:off x="152280" y="0"/>
            <a:ext cx="6553440" cy="5407200"/>
            <a:chOff x="152280" y="0"/>
            <a:chExt cx="6553440" cy="5407200"/>
          </a:xfrm>
        </p:grpSpPr>
        <p:pic>
          <p:nvPicPr>
            <p:cNvPr id="63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5563080" cy="472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3"/>
            <p:cNvSpPr/>
            <p:nvPr/>
          </p:nvSpPr>
          <p:spPr>
            <a:xfrm>
              <a:off x="152280" y="14040"/>
              <a:ext cx="1752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2057400" y="0"/>
              <a:ext cx="46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Amplitude (intensity) of a wav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"/>
            <p:cNvSpPr/>
            <p:nvPr/>
          </p:nvSpPr>
          <p:spPr>
            <a:xfrm>
              <a:off x="2361960" y="2971800"/>
              <a:ext cx="4038840" cy="22860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0"/>
            <p:cNvGrpSpPr/>
            <p:nvPr/>
          </p:nvGrpSpPr>
          <p:grpSpPr>
            <a:xfrm>
              <a:off x="1523880" y="990360"/>
              <a:ext cx="3295800" cy="1884240"/>
              <a:chOff x="1523880" y="990360"/>
              <a:chExt cx="3295800" cy="1884240"/>
            </a:xfrm>
          </p:grpSpPr>
          <p:sp>
            <p:nvSpPr>
              <p:cNvPr id="68" name="Rectangle 8"/>
              <p:cNvSpPr/>
              <p:nvPr/>
            </p:nvSpPr>
            <p:spPr>
              <a:xfrm>
                <a:off x="1523880" y="990360"/>
                <a:ext cx="609840" cy="182880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9"/>
              <p:cNvSpPr/>
              <p:nvPr/>
            </p:nvSpPr>
            <p:spPr>
              <a:xfrm>
                <a:off x="4210200" y="2133360"/>
                <a:ext cx="609480" cy="741240"/>
              </a:xfrm>
              <a:prstGeom prst="rect">
                <a:avLst/>
              </a:prstGeom>
              <a:noFill/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TextBox 10"/>
          <p:cNvSpPr/>
          <p:nvPr/>
        </p:nvSpPr>
        <p:spPr>
          <a:xfrm>
            <a:off x="-21960" y="5715000"/>
            <a:ext cx="88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height or amplitude determines radiation int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velength is related to the energy of the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Ener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ecreas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increases, what happened to the energy of the radia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here h = Planck’s consta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.626 ×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kg/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2038320" y="3225960"/>
            <a:ext cx="3016440" cy="1269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2003400"/>
            <a:ext cx="54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ons of the electromagnetic spectr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68440" y="304920"/>
            <a:ext cx="802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finite number of wavelength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magnetic radiation have been class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o groups as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07_05_figure"/>
          <p:cNvPicPr/>
          <p:nvPr/>
        </p:nvPicPr>
        <p:blipFill>
          <a:blip r:embed="rId1"/>
          <a:stretch/>
        </p:blipFill>
        <p:spPr>
          <a:xfrm>
            <a:off x="304920" y="2846520"/>
            <a:ext cx="8547120" cy="40114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14400" y="3352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1143000" y="4572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converting Wavelength and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371600" y="2819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8"/>
          <p:cNvGrpSpPr/>
          <p:nvPr/>
        </p:nvGrpSpPr>
        <p:grpSpPr>
          <a:xfrm>
            <a:off x="5181480" y="4114800"/>
            <a:ext cx="838080" cy="672840"/>
            <a:chOff x="5181480" y="4114800"/>
            <a:chExt cx="838080" cy="672840"/>
          </a:xfrm>
        </p:grpSpPr>
        <p:sp>
          <p:nvSpPr>
            <p:cNvPr id="84" name="Text Box 21"/>
            <p:cNvSpPr/>
            <p:nvPr/>
          </p:nvSpPr>
          <p:spPr>
            <a:xfrm>
              <a:off x="5181480" y="4114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2"/>
            <p:cNvSpPr/>
            <p:nvPr/>
          </p:nvSpPr>
          <p:spPr>
            <a:xfrm>
              <a:off x="5295960" y="4419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6"/>
            <p:cNvSpPr/>
            <p:nvPr/>
          </p:nvSpPr>
          <p:spPr>
            <a:xfrm>
              <a:off x="5219640" y="44589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5181480" y="5181480"/>
            <a:ext cx="838080" cy="673200"/>
            <a:chOff x="5181480" y="5181480"/>
            <a:chExt cx="838080" cy="673200"/>
          </a:xfrm>
        </p:grpSpPr>
        <p:sp>
          <p:nvSpPr>
            <p:cNvPr id="88" name="Text Box 23"/>
            <p:cNvSpPr/>
            <p:nvPr/>
          </p:nvSpPr>
          <p:spPr>
            <a:xfrm>
              <a:off x="5181480" y="51814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4"/>
            <p:cNvSpPr/>
            <p:nvPr/>
          </p:nvSpPr>
          <p:spPr>
            <a:xfrm>
              <a:off x="5181480" y="54864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7"/>
            <p:cNvSpPr/>
            <p:nvPr/>
          </p:nvSpPr>
          <p:spPr>
            <a:xfrm>
              <a:off x="5219640" y="549900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1"/>
          <p:cNvSpPr/>
          <p:nvPr/>
        </p:nvSpPr>
        <p:spPr>
          <a:xfrm>
            <a:off x="6019920" y="3124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2"/>
          <p:cNvSpPr/>
          <p:nvPr/>
        </p:nvSpPr>
        <p:spPr>
          <a:xfrm>
            <a:off x="60199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6021360" y="534816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47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9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4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5"/>
          <p:cNvSpPr/>
          <p:nvPr/>
        </p:nvSpPr>
        <p:spPr>
          <a:xfrm>
            <a:off x="6477120" y="3505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6"/>
          <p:cNvSpPr/>
          <p:nvPr/>
        </p:nvSpPr>
        <p:spPr>
          <a:xfrm>
            <a:off x="63244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00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1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7"/>
          <p:cNvSpPr/>
          <p:nvPr/>
        </p:nvSpPr>
        <p:spPr>
          <a:xfrm>
            <a:off x="6362640" y="3886200"/>
            <a:ext cx="118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ext Box 38"/>
          <p:cNvGrpSpPr/>
          <p:nvPr/>
        </p:nvGrpSpPr>
        <p:grpSpPr>
          <a:xfrm>
            <a:off x="7699320" y="3657600"/>
            <a:ext cx="1218960" cy="368280"/>
            <a:chOff x="7699320" y="3657600"/>
            <a:chExt cx="1218960" cy="368280"/>
          </a:xfrm>
        </p:grpSpPr>
        <p:pic>
          <p:nvPicPr>
            <p:cNvPr id="99" name="Text Box 38" descr=""/>
            <p:cNvPicPr/>
            <p:nvPr/>
          </p:nvPicPr>
          <p:blipFill>
            <a:blip r:embed="rId1"/>
            <a:stretch/>
          </p:blipFill>
          <p:spPr>
            <a:xfrm>
              <a:off x="7702200" y="3657600"/>
              <a:ext cx="121608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7699320" y="3657600"/>
              <a:ext cx="12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9"/>
          <p:cNvSpPr/>
          <p:nvPr/>
        </p:nvSpPr>
        <p:spPr>
          <a:xfrm>
            <a:off x="5867280" y="472428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0"/>
          <p:cNvSpPr/>
          <p:nvPr/>
        </p:nvSpPr>
        <p:spPr>
          <a:xfrm>
            <a:off x="5867280" y="5791320"/>
            <a:ext cx="457200" cy="368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6324480" y="4572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6324480" y="4952880"/>
            <a:ext cx="10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3"/>
          <p:cNvSpPr/>
          <p:nvPr/>
        </p:nvSpPr>
        <p:spPr>
          <a:xfrm>
            <a:off x="63244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5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Text Box 44"/>
          <p:cNvGrpSpPr/>
          <p:nvPr/>
        </p:nvGrpSpPr>
        <p:grpSpPr>
          <a:xfrm>
            <a:off x="7547040" y="4724280"/>
            <a:ext cx="1517400" cy="368280"/>
            <a:chOff x="7547040" y="4724280"/>
            <a:chExt cx="1517400" cy="368280"/>
          </a:xfrm>
        </p:grpSpPr>
        <p:pic>
          <p:nvPicPr>
            <p:cNvPr id="107" name="Text Box 44" descr=""/>
            <p:cNvPicPr/>
            <p:nvPr/>
          </p:nvPicPr>
          <p:blipFill>
            <a:blip r:embed="rId2"/>
            <a:stretch/>
          </p:blipFill>
          <p:spPr>
            <a:xfrm>
              <a:off x="7549920" y="4724280"/>
              <a:ext cx="151452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547040" y="472428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9.2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7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5"/>
          <p:cNvGrpSpPr/>
          <p:nvPr/>
        </p:nvGrpSpPr>
        <p:grpSpPr>
          <a:xfrm>
            <a:off x="6400800" y="5638680"/>
            <a:ext cx="1371600" cy="749520"/>
            <a:chOff x="6400800" y="5638680"/>
            <a:chExt cx="1371600" cy="749520"/>
          </a:xfrm>
        </p:grpSpPr>
        <p:sp>
          <p:nvSpPr>
            <p:cNvPr id="110" name="Text Box 45"/>
            <p:cNvSpPr/>
            <p:nvPr/>
          </p:nvSpPr>
          <p:spPr>
            <a:xfrm>
              <a:off x="6400800" y="5638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/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6"/>
            <p:cNvSpPr/>
            <p:nvPr/>
          </p:nvSpPr>
          <p:spPr>
            <a:xfrm>
              <a:off x="6400800" y="6019920"/>
              <a:ext cx="11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7"/>
            <p:cNvSpPr/>
            <p:nvPr/>
          </p:nvSpPr>
          <p:spPr>
            <a:xfrm>
              <a:off x="6400800" y="60199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9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Text Box 48"/>
          <p:cNvGrpSpPr/>
          <p:nvPr/>
        </p:nvGrpSpPr>
        <p:grpSpPr>
          <a:xfrm>
            <a:off x="7547040" y="5718240"/>
            <a:ext cx="1517760" cy="368280"/>
            <a:chOff x="7547040" y="5718240"/>
            <a:chExt cx="1517760" cy="368280"/>
          </a:xfrm>
        </p:grpSpPr>
        <p:pic>
          <p:nvPicPr>
            <p:cNvPr id="114" name="Text Box 48" descr=""/>
            <p:cNvPicPr/>
            <p:nvPr/>
          </p:nvPicPr>
          <p:blipFill>
            <a:blip r:embed="rId3"/>
            <a:stretch/>
          </p:blipFill>
          <p:spPr>
            <a:xfrm>
              <a:off x="7549920" y="5721120"/>
              <a:ext cx="15130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547040" y="5718240"/>
              <a:ext cx="151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6.34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14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61"/>
          <p:cNvGrpSpPr/>
          <p:nvPr/>
        </p:nvGrpSpPr>
        <p:grpSpPr>
          <a:xfrm>
            <a:off x="380880" y="914400"/>
            <a:ext cx="8607240" cy="1892160"/>
            <a:chOff x="380880" y="914400"/>
            <a:chExt cx="8607240" cy="1892160"/>
          </a:xfrm>
        </p:grpSpPr>
        <p:grpSp>
          <p:nvGrpSpPr>
            <p:cNvPr id="117" name="Group 51"/>
            <p:cNvGrpSpPr/>
            <p:nvPr/>
          </p:nvGrpSpPr>
          <p:grpSpPr>
            <a:xfrm>
              <a:off x="380880" y="1066680"/>
              <a:ext cx="8607240" cy="1739880"/>
              <a:chOff x="380880" y="1066680"/>
              <a:chExt cx="8607240" cy="1739880"/>
            </a:xfrm>
          </p:grpSpPr>
          <p:sp>
            <p:nvSpPr>
              <p:cNvPr id="118" name="Text Box 3"/>
              <p:cNvSpPr/>
              <p:nvPr/>
            </p:nvSpPr>
            <p:spPr>
              <a:xfrm>
                <a:off x="380880" y="1066680"/>
                <a:ext cx="155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ROBLEM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7"/>
              <p:cNvSpPr/>
              <p:nvPr/>
            </p:nvSpPr>
            <p:spPr>
              <a:xfrm>
                <a:off x="1931760" y="1066680"/>
                <a:ext cx="7056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 dental hygienist uses x-rays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1.00A) to take a series of dental radiographs while the patient listens to a radio station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 = 325 cm) and looks out the window at the blue sky 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= 473 nm).  What is the frequency (in s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-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) of the electromagnetic radiation from each source? (Assume that the radiation travels at the speed of light, 3.00x10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Comic Sans MS"/>
                  </a:rPr>
                  <a:t>8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m/s.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6"/>
            <p:cNvSpPr/>
            <p:nvPr/>
          </p:nvSpPr>
          <p:spPr>
            <a:xfrm>
              <a:off x="6019920" y="914400"/>
              <a:ext cx="44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64"/>
          <p:cNvGrpSpPr/>
          <p:nvPr/>
        </p:nvGrpSpPr>
        <p:grpSpPr>
          <a:xfrm>
            <a:off x="4419720" y="3112920"/>
            <a:ext cx="838080" cy="2589480"/>
            <a:chOff x="4419720" y="3112920"/>
            <a:chExt cx="838080" cy="2589480"/>
          </a:xfrm>
        </p:grpSpPr>
        <p:sp>
          <p:nvSpPr>
            <p:cNvPr id="122" name="Text Box 17"/>
            <p:cNvSpPr/>
            <p:nvPr/>
          </p:nvSpPr>
          <p:spPr>
            <a:xfrm>
              <a:off x="441972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25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4419720" y="5334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73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63"/>
            <p:cNvGrpSpPr/>
            <p:nvPr/>
          </p:nvGrpSpPr>
          <p:grpSpPr>
            <a:xfrm>
              <a:off x="4419720" y="3112920"/>
              <a:ext cx="838080" cy="455760"/>
              <a:chOff x="4419720" y="3112920"/>
              <a:chExt cx="838080" cy="455760"/>
            </a:xfrm>
          </p:grpSpPr>
          <p:sp>
            <p:nvSpPr>
              <p:cNvPr id="125" name="Text Box 16"/>
              <p:cNvSpPr/>
              <p:nvPr/>
            </p:nvSpPr>
            <p:spPr>
              <a:xfrm>
                <a:off x="4419720" y="32004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.00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60"/>
              <p:cNvSpPr/>
              <p:nvPr/>
            </p:nvSpPr>
            <p:spPr>
              <a:xfrm>
                <a:off x="4800600" y="311292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Group 66"/>
          <p:cNvGrpSpPr/>
          <p:nvPr/>
        </p:nvGrpSpPr>
        <p:grpSpPr>
          <a:xfrm>
            <a:off x="5105520" y="3124080"/>
            <a:ext cx="990360" cy="673200"/>
            <a:chOff x="5105520" y="3124080"/>
            <a:chExt cx="990360" cy="673200"/>
          </a:xfrm>
        </p:grpSpPr>
        <p:sp>
          <p:nvSpPr>
            <p:cNvPr id="128" name="Text Box 19"/>
            <p:cNvSpPr/>
            <p:nvPr/>
          </p:nvSpPr>
          <p:spPr>
            <a:xfrm>
              <a:off x="5105520" y="31240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10 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5257800" y="34290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65"/>
            <p:cNvGrpSpPr/>
            <p:nvPr/>
          </p:nvGrpSpPr>
          <p:grpSpPr>
            <a:xfrm>
              <a:off x="5334120" y="3352680"/>
              <a:ext cx="473040" cy="444600"/>
              <a:chOff x="5334120" y="3352680"/>
              <a:chExt cx="473040" cy="444600"/>
            </a:xfrm>
          </p:grpSpPr>
          <p:sp>
            <p:nvSpPr>
              <p:cNvPr id="131" name="Text Box 20"/>
              <p:cNvSpPr/>
              <p:nvPr/>
            </p:nvSpPr>
            <p:spPr>
              <a:xfrm>
                <a:off x="5334120" y="34290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1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62"/>
              <p:cNvSpPr/>
              <p:nvPr/>
            </p:nvSpPr>
            <p:spPr>
              <a:xfrm>
                <a:off x="5495760" y="3352680"/>
                <a:ext cx="31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80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371600" y="45720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lculating the Energy of Radiation from Its 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380880" y="1066680"/>
            <a:ext cx="8458200" cy="916920"/>
            <a:chOff x="380880" y="1066680"/>
            <a:chExt cx="8458200" cy="916920"/>
          </a:xfrm>
        </p:grpSpPr>
        <p:sp>
          <p:nvSpPr>
            <p:cNvPr id="137" name="Text Box 3"/>
            <p:cNvSpPr/>
            <p:nvPr/>
          </p:nvSpPr>
          <p:spPr>
            <a:xfrm>
              <a:off x="380880" y="10666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BLEM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905120" y="1066680"/>
              <a:ext cx="6933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 cook uses a microwave oven to heat a meal.  The wavelength of the radiation is 1.20cm.  What is the energy of one photon of this microwave radiation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1295280" y="21337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fter converting cm to m, we can use the energy equation, E = h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combined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o find th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2057400" y="2971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 hc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90512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.626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9880" y="3429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x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2286000" y="3886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.2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1828800" y="380988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4"/>
          <p:cNvGrpSpPr/>
          <p:nvPr/>
        </p:nvGrpSpPr>
        <p:grpSpPr>
          <a:xfrm>
            <a:off x="3276720" y="3809880"/>
            <a:ext cx="761760" cy="749520"/>
            <a:chOff x="3276720" y="3809880"/>
            <a:chExt cx="761760" cy="749520"/>
          </a:xfrm>
        </p:grpSpPr>
        <p:sp>
          <p:nvSpPr>
            <p:cNvPr id="147" name="Text Box 16"/>
            <p:cNvSpPr/>
            <p:nvPr/>
          </p:nvSpPr>
          <p:spPr>
            <a:xfrm>
              <a:off x="3352680" y="38098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3352680" y="41911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3276720" y="4191120"/>
              <a:ext cx="76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0"/>
          <p:cNvSpPr/>
          <p:nvPr/>
        </p:nvSpPr>
        <p:spPr>
          <a:xfrm>
            <a:off x="3581280" y="3429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Text Box 21"/>
          <p:cNvGrpSpPr/>
          <p:nvPr/>
        </p:nvGrpSpPr>
        <p:grpSpPr>
          <a:xfrm>
            <a:off x="4876920" y="3584520"/>
            <a:ext cx="1523880" cy="368280"/>
            <a:chOff x="4876920" y="3584520"/>
            <a:chExt cx="1523880" cy="368280"/>
          </a:xfrm>
        </p:grpSpPr>
        <p:pic>
          <p:nvPicPr>
            <p:cNvPr id="152" name="Text Box 21" descr=""/>
            <p:cNvPicPr/>
            <p:nvPr/>
          </p:nvPicPr>
          <p:blipFill>
            <a:blip r:embed="rId1"/>
            <a:stretch/>
          </p:blipFill>
          <p:spPr>
            <a:xfrm>
              <a:off x="4876920" y="3587400"/>
              <a:ext cx="152388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876920" y="3584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 1.66x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Comic Sans MS"/>
                </a:rPr>
                <a:t>-23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icle or Wav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3208320" cy="28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257800" y="1346040"/>
            <a:ext cx="3218040" cy="2948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1981080" y="4317840"/>
            <a:ext cx="320832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5257800" y="4324320"/>
            <a:ext cx="319104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9"/>
          <p:cNvSpPr/>
          <p:nvPr/>
        </p:nvSpPr>
        <p:spPr>
          <a:xfrm>
            <a:off x="380880" y="2597040"/>
            <a:ext cx="167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fferent behaviors of waves and parti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33:34Z</dcterms:created>
  <dc:creator>Barbara Gage</dc:creator>
  <dc:description/>
  <dc:language>en-US</dc:language>
  <cp:lastModifiedBy>LEGION</cp:lastModifiedBy>
  <dcterms:modified xsi:type="dcterms:W3CDTF">2017-01-26T09:35:03Z</dcterms:modified>
  <cp:revision>49</cp:revision>
  <dc:subject/>
  <dc:title>Atomic Structure</dc:title>
</cp:coreProperties>
</file>